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DDC58-6650-4E26-9686-2C2DF7B99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90F7A-837A-40D0-A119-360102EC3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43481-E40F-4E9A-AD2D-54F098FF8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E5CF3-15C0-499B-89A9-5AADECFDC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270B3-6ABD-44C3-B56A-4CD5D4613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E0483-9562-47B2-A385-8D79CFBF1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67068-50B6-400A-91BE-35EF800DD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5EEFE-0869-486A-BF5E-1A635E7CF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E176D-BE83-463F-B48E-17227A257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0971E-0FDB-40C4-A602-0836DC418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8EA72-00F8-4B89-9AE3-1B4B5A4E3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A7686-7537-4C86-8E53-DC00F7748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D4E03-D7C6-4F9D-B6C8-009CC744C9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imanch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André Bourvi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02 Dimanche.m4a" descr=""/>
          <p:cNvPicPr/>
          <p:nvPr/>
        </p:nvPicPr>
        <p:blipFill>
          <a:blip r:embed="rId1"/>
          <a:stretch/>
        </p:blipFill>
        <p:spPr>
          <a:xfrm>
            <a:off x="4495680" y="5029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1"/>
          <p:cNvSpPr/>
          <p:nvPr/>
        </p:nvSpPr>
        <p:spPr>
          <a:xfrm>
            <a:off x="914400" y="685800"/>
            <a:ext cx="9144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Je les ai eu a la salle de vente,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alibri"/>
              </a:rPr>
              <a:t>2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dre-d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is ca me fait rien pourvu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qu’on s’aime, d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Dimanche, dimanche, dimanche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2"/>
          <p:cNvSpPr/>
          <p:nvPr/>
        </p:nvSpPr>
        <p:spPr>
          <a:xfrm>
            <a:off x="961560" y="6014880"/>
            <a:ext cx="496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la salle de vente=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auction roo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1"/>
          <p:cNvSpPr/>
          <p:nvPr/>
        </p:nvSpPr>
        <p:spPr>
          <a:xfrm>
            <a:off x="914400" y="6858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Je les ai eu a la salle de vente,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alibri"/>
              </a:rPr>
              <a:t>2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dre-d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is ca me fait rien pourvu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qu’on s’aime, d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Dimanche, dimanche, dimanche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’est rep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2"/>
          <p:cNvSpPr/>
          <p:nvPr/>
        </p:nvSpPr>
        <p:spPr>
          <a:xfrm>
            <a:off x="961560" y="6014880"/>
            <a:ext cx="496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la salle de vente=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auction roo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1"/>
          <p:cNvSpPr/>
          <p:nvPr/>
        </p:nvSpPr>
        <p:spPr>
          <a:xfrm>
            <a:off x="914400" y="685800"/>
            <a:ext cx="815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Je sais que tu frequentes un lun-d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1"/>
          <p:cNvSpPr/>
          <p:nvPr/>
        </p:nvSpPr>
        <p:spPr>
          <a:xfrm>
            <a:off x="914400" y="685800"/>
            <a:ext cx="815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Je sais que tu frequentes à lun-d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t qu’il travaille au cirque à mard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1"/>
          <p:cNvSpPr/>
          <p:nvPr/>
        </p:nvSpPr>
        <p:spPr>
          <a:xfrm>
            <a:off x="914400" y="685800"/>
            <a:ext cx="81532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Je sais que tu frequentes à lun-d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t qu’il travaille au cirque à mard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Je dois dire que la trouve amere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- cred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2"/>
          <p:cNvSpPr/>
          <p:nvPr/>
        </p:nvSpPr>
        <p:spPr>
          <a:xfrm>
            <a:off x="583200" y="5646600"/>
            <a:ext cx="284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4  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amer=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it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1"/>
          <p:cNvSpPr/>
          <p:nvPr/>
        </p:nvSpPr>
        <p:spPr>
          <a:xfrm>
            <a:off x="914400" y="685800"/>
            <a:ext cx="81532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Je sais que tu frequentes à lun-d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t qu’il travaille au cirque à mard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Je dois dire que la trouve amere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- cred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l fait plutôt moyenageu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alibri"/>
              </a:rPr>
              <a:t>5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, d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2"/>
          <p:cNvSpPr/>
          <p:nvPr/>
        </p:nvSpPr>
        <p:spPr>
          <a:xfrm>
            <a:off x="588600" y="5646600"/>
            <a:ext cx="5647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4  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amer=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it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5  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moyengeux=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edieval, antiqu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1"/>
          <p:cNvSpPr/>
          <p:nvPr/>
        </p:nvSpPr>
        <p:spPr>
          <a:xfrm>
            <a:off x="914400" y="685800"/>
            <a:ext cx="10210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u n’a pas regardé son ventre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alibri"/>
              </a:rPr>
              <a:t>6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, d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2"/>
          <p:cNvSpPr/>
          <p:nvPr/>
        </p:nvSpPr>
        <p:spPr>
          <a:xfrm>
            <a:off x="910440" y="6014880"/>
            <a:ext cx="344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lain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onyme de l’estoma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1"/>
          <p:cNvSpPr/>
          <p:nvPr/>
        </p:nvSpPr>
        <p:spPr>
          <a:xfrm>
            <a:off x="914400" y="685800"/>
            <a:ext cx="10210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u n’a pas regardé son ventre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alibri"/>
              </a:rPr>
              <a:t>6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, d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On dirait un hippotame, d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2"/>
          <p:cNvSpPr/>
          <p:nvPr/>
        </p:nvSpPr>
        <p:spPr>
          <a:xfrm>
            <a:off x="910440" y="6014880"/>
            <a:ext cx="344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lain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onyme de l’estoma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1"/>
          <p:cNvSpPr/>
          <p:nvPr/>
        </p:nvSpPr>
        <p:spPr>
          <a:xfrm>
            <a:off x="914400" y="685800"/>
            <a:ext cx="10210680" cy="21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u n’a pas regardé son ventre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alibri"/>
              </a:rPr>
              <a:t>6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, d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On dirait un hippotame, d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[C’est rare quand on dit aujourd’hui ‘tamedis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nfin cela ne fait rien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2"/>
          <p:cNvSpPr/>
          <p:nvPr/>
        </p:nvSpPr>
        <p:spPr>
          <a:xfrm>
            <a:off x="910440" y="6014880"/>
            <a:ext cx="344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lain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onyme de l’estoma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"/>
          <p:cNvSpPr/>
          <p:nvPr/>
        </p:nvSpPr>
        <p:spPr>
          <a:xfrm>
            <a:off x="914400" y="685800"/>
            <a:ext cx="10210680" cy="27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u n’a pas regardé son ventre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alibri"/>
              </a:rPr>
              <a:t>6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, d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On dirait un hippotame, d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[C’est rare quand on dit aujourd’hui ‘tamedis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nfin cela ne fait rien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Dimanche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2"/>
          <p:cNvSpPr/>
          <p:nvPr/>
        </p:nvSpPr>
        <p:spPr>
          <a:xfrm>
            <a:off x="910440" y="6014880"/>
            <a:ext cx="344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lain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onyme de l’estoma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"/>
          <p:cNvSpPr/>
          <p:nvPr/>
        </p:nvSpPr>
        <p:spPr>
          <a:xfrm>
            <a:off x="914400" y="685800"/>
            <a:ext cx="8077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’est sur un trottoir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un beau lun - d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2"/>
          <p:cNvSpPr/>
          <p:nvPr/>
        </p:nvSpPr>
        <p:spPr>
          <a:xfrm>
            <a:off x="929160" y="5943600"/>
            <a:ext cx="332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 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un trottoi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= a sidewal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1"/>
          <p:cNvSpPr/>
          <p:nvPr/>
        </p:nvSpPr>
        <p:spPr>
          <a:xfrm>
            <a:off x="914400" y="685800"/>
            <a:ext cx="10210680" cy="27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u n’a pas regardé son ventre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alibri"/>
              </a:rPr>
              <a:t>6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, d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On dirait un hippotame, d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[C’est rare quand on dit aujourd’hui ‘tamedis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nfin cela ne fait rien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Dimanche, dimanche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2"/>
          <p:cNvSpPr/>
          <p:nvPr/>
        </p:nvSpPr>
        <p:spPr>
          <a:xfrm>
            <a:off x="910440" y="6014880"/>
            <a:ext cx="344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lain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onyme de l’estoma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"/>
          <p:cNvSpPr/>
          <p:nvPr/>
        </p:nvSpPr>
        <p:spPr>
          <a:xfrm>
            <a:off x="914400" y="685800"/>
            <a:ext cx="10210680" cy="27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u n’a pas regardé son ventre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alibri"/>
              </a:rPr>
              <a:t>6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, d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On dirait un hippotame, d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[C’est rare quand on dit aujourd’hui ‘tamedis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nfin cela ne fait rien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Dimanche, dimanche, dimanche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2"/>
          <p:cNvSpPr/>
          <p:nvPr/>
        </p:nvSpPr>
        <p:spPr>
          <a:xfrm>
            <a:off x="910440" y="6014880"/>
            <a:ext cx="344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lain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onyme de l’estoma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1"/>
          <p:cNvSpPr/>
          <p:nvPr/>
        </p:nvSpPr>
        <p:spPr>
          <a:xfrm>
            <a:off x="914400" y="685800"/>
            <a:ext cx="10210680" cy="33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u n’a pas regardé son ventre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alibri"/>
              </a:rPr>
              <a:t>6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, d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On dirait un hippotame, d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[C’est rare quand on dit aujourd’hui ‘tamedis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nfin cela ne fait rien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Dimanche, dimanche, dimanche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’est rep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2"/>
          <p:cNvSpPr/>
          <p:nvPr/>
        </p:nvSpPr>
        <p:spPr>
          <a:xfrm>
            <a:off x="910440" y="6014880"/>
            <a:ext cx="344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lain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onyme de l’estoma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1"/>
          <p:cNvSpPr/>
          <p:nvPr/>
        </p:nvSpPr>
        <p:spPr>
          <a:xfrm>
            <a:off x="914400" y="685800"/>
            <a:ext cx="8458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’est en cherchant ma pierre d’alum-di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alibri"/>
              </a:rPr>
              <a:t>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2"/>
          <p:cNvSpPr/>
          <p:nvPr/>
        </p:nvSpPr>
        <p:spPr>
          <a:xfrm>
            <a:off x="551520" y="5646600"/>
            <a:ext cx="522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7 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une chose pour faire la toilet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1"/>
          <p:cNvSpPr/>
          <p:nvPr/>
        </p:nvSpPr>
        <p:spPr>
          <a:xfrm>
            <a:off x="914400" y="685800"/>
            <a:ext cx="8458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’est en cherchant ma pierre d’alum-di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alibri"/>
              </a:rPr>
              <a:t>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Que j’ai decouvert dans l’amoire-d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2"/>
          <p:cNvSpPr/>
          <p:nvPr/>
        </p:nvSpPr>
        <p:spPr>
          <a:xfrm>
            <a:off x="551520" y="5646600"/>
            <a:ext cx="522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7 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une chose pour faire la toilet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1"/>
          <p:cNvSpPr/>
          <p:nvPr/>
        </p:nvSpPr>
        <p:spPr>
          <a:xfrm>
            <a:off x="914400" y="685800"/>
            <a:ext cx="84582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’est en cherchant ma pierre d’alum-di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alibri"/>
              </a:rPr>
              <a:t>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Que j’ai decouvert dans l’amoire-d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Un homme qui était nu comm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un ver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alibri"/>
              </a:rPr>
              <a:t>8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re-d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2"/>
          <p:cNvSpPr/>
          <p:nvPr/>
        </p:nvSpPr>
        <p:spPr>
          <a:xfrm>
            <a:off x="551520" y="5646600"/>
            <a:ext cx="5223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7 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une chose pour faire la toilet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8   expr. = naked as a wor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1"/>
          <p:cNvSpPr/>
          <p:nvPr/>
        </p:nvSpPr>
        <p:spPr>
          <a:xfrm>
            <a:off x="914400" y="685800"/>
            <a:ext cx="84582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’est en cherchant ma pierre d’alum-di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alibri"/>
              </a:rPr>
              <a:t>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Que j’ai decouvert dans l’amoire-d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Un homme qui était nu comm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un ver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alibri"/>
              </a:rPr>
              <a:t>8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re-d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l était plutôt ombrageux-d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2"/>
          <p:cNvSpPr/>
          <p:nvPr/>
        </p:nvSpPr>
        <p:spPr>
          <a:xfrm>
            <a:off x="551520" y="5646600"/>
            <a:ext cx="5223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7 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une chose pour faire la toilet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8   expr. = naked as a wor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1"/>
          <p:cNvSpPr/>
          <p:nvPr/>
        </p:nvSpPr>
        <p:spPr>
          <a:xfrm>
            <a:off x="914400" y="685800"/>
            <a:ext cx="800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haché derrière un paravent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alibri"/>
              </a:rPr>
              <a:t>9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-dre-d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2"/>
          <p:cNvSpPr/>
          <p:nvPr/>
        </p:nvSpPr>
        <p:spPr>
          <a:xfrm>
            <a:off x="927360" y="5943600"/>
            <a:ext cx="322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9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un paravent=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scre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1"/>
          <p:cNvSpPr/>
          <p:nvPr/>
        </p:nvSpPr>
        <p:spPr>
          <a:xfrm>
            <a:off x="914400" y="685800"/>
            <a:ext cx="8001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haché derrière un paravent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alibri"/>
              </a:rPr>
              <a:t>9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-dre-d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J’y suis resté pour voir ma femme-d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2"/>
          <p:cNvSpPr/>
          <p:nvPr/>
        </p:nvSpPr>
        <p:spPr>
          <a:xfrm>
            <a:off x="927360" y="5943600"/>
            <a:ext cx="322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9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un paravent=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scre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1"/>
          <p:cNvSpPr/>
          <p:nvPr/>
        </p:nvSpPr>
        <p:spPr>
          <a:xfrm>
            <a:off x="914400" y="685800"/>
            <a:ext cx="8001000" cy="22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haché derrière un paravent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alibri"/>
              </a:rPr>
              <a:t>9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-dre-d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J’y suis resté pour voir ma femme-d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[C’est rare aussi quand on dit qu’on ai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ujourd’hui , aujourd’hui, femmedi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2"/>
          <p:cNvSpPr/>
          <p:nvPr/>
        </p:nvSpPr>
        <p:spPr>
          <a:xfrm>
            <a:off x="927360" y="5943600"/>
            <a:ext cx="322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9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un paravent=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scre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1"/>
          <p:cNvSpPr/>
          <p:nvPr/>
        </p:nvSpPr>
        <p:spPr>
          <a:xfrm>
            <a:off x="914400" y="685800"/>
            <a:ext cx="8077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’est sur un trottoir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un beau lun - d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Que je l’ai recontré  à Clamard - d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2"/>
          <p:cNvSpPr/>
          <p:nvPr/>
        </p:nvSpPr>
        <p:spPr>
          <a:xfrm>
            <a:off x="929160" y="5943600"/>
            <a:ext cx="332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 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un trottoi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= a sidewal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1"/>
          <p:cNvSpPr/>
          <p:nvPr/>
        </p:nvSpPr>
        <p:spPr>
          <a:xfrm>
            <a:off x="914400" y="685800"/>
            <a:ext cx="8001000" cy="28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haché derrière un paravent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alibri"/>
              </a:rPr>
              <a:t>9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-dre-d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J’y suis resté pour voir ma femme-d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[C’est rare aussi quand on dit qu’on ai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ujourd’hui , aujourd’hui, femmedi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Dimanche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2"/>
          <p:cNvSpPr/>
          <p:nvPr/>
        </p:nvSpPr>
        <p:spPr>
          <a:xfrm>
            <a:off x="927360" y="5943600"/>
            <a:ext cx="322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9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un paravent=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scre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"/>
          <p:cNvSpPr/>
          <p:nvPr/>
        </p:nvSpPr>
        <p:spPr>
          <a:xfrm>
            <a:off x="914400" y="685800"/>
            <a:ext cx="8001000" cy="28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haché derrière un paravent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alibri"/>
              </a:rPr>
              <a:t>9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-dre-d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J’y suis resté pour voir ma femme-d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[C’est rare aussi quand on dit qu’on ai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ujourd’hui , aujourd’hui, femmedi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Dimanche, dimanche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2"/>
          <p:cNvSpPr/>
          <p:nvPr/>
        </p:nvSpPr>
        <p:spPr>
          <a:xfrm>
            <a:off x="927360" y="5943600"/>
            <a:ext cx="322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9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un paravent=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scre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"/>
          <p:cNvSpPr/>
          <p:nvPr/>
        </p:nvSpPr>
        <p:spPr>
          <a:xfrm>
            <a:off x="914400" y="685800"/>
            <a:ext cx="8001000" cy="28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haché derrière un paravent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alibri"/>
              </a:rPr>
              <a:t>9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-dre-d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J’y suis resté pour voir ma femme-d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[C’est rare aussi quand on dit qu’on ai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ujourd’hui , aujourd’hui, femmedi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Dimanche, dimanche, dimanche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2"/>
          <p:cNvSpPr/>
          <p:nvPr/>
        </p:nvSpPr>
        <p:spPr>
          <a:xfrm>
            <a:off x="927360" y="5943600"/>
            <a:ext cx="322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9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un paravent=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scre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1"/>
          <p:cNvSpPr/>
          <p:nvPr/>
        </p:nvSpPr>
        <p:spPr>
          <a:xfrm>
            <a:off x="914400" y="685800"/>
            <a:ext cx="80010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haché derrière un paravent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alibri"/>
              </a:rPr>
              <a:t>9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-dre-d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J’y suis resté pour voir ma femme-d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[C’est rare aussi quand on dit qu’on ai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ujourd’hui , aujourd’hui, femmedi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Dimanche, dimanche, dimanche, dimanche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2"/>
          <p:cNvSpPr/>
          <p:nvPr/>
        </p:nvSpPr>
        <p:spPr>
          <a:xfrm>
            <a:off x="927360" y="5943600"/>
            <a:ext cx="322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9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un paravent=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scre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1"/>
          <p:cNvSpPr/>
          <p:nvPr/>
        </p:nvSpPr>
        <p:spPr>
          <a:xfrm>
            <a:off x="914400" y="685800"/>
            <a:ext cx="80010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haché derrière un paravent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alibri"/>
              </a:rPr>
              <a:t>9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-dre-d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J’y suis resté pour voir ma femme-d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[C’est rare aussi quand on dit qu’on ai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ujourd’hui , aujourd’hui, femmedi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Dimanche, dimanche, dimanche, dimanche, dimanche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2"/>
          <p:cNvSpPr/>
          <p:nvPr/>
        </p:nvSpPr>
        <p:spPr>
          <a:xfrm>
            <a:off x="927360" y="5943600"/>
            <a:ext cx="322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9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un paravent=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scre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1"/>
          <p:cNvSpPr/>
          <p:nvPr/>
        </p:nvSpPr>
        <p:spPr>
          <a:xfrm>
            <a:off x="914400" y="685800"/>
            <a:ext cx="8001000" cy="39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haché derrière un paravent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alibri"/>
              </a:rPr>
              <a:t>9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-dre-d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J’y suis resté pour voir ma femme-d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[C’est rare aussi quand on dit qu’on ai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ujourd’hui , aujourd’hui, femmedi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Dimanche, dimanche, dimanche, dimanche, dimanche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[Oh, oui, c’est vrai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2"/>
          <p:cNvSpPr/>
          <p:nvPr/>
        </p:nvSpPr>
        <p:spPr>
          <a:xfrm>
            <a:off x="927360" y="5943600"/>
            <a:ext cx="322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9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un paravent=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scre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914400" y="685800"/>
            <a:ext cx="8001000" cy="46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haché derrière un paravent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alibri"/>
              </a:rPr>
              <a:t>9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-dre-d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J’y suis resté pour voir ma femme-d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[C’est rare aussi quand on dit qu’on ai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ujourd’hui , aujourd’hui, femmedi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Dimanche, dimanche, dimanche, dimanche, dimanche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[Oh, oui, c’est vrai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’est rep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927360" y="5943600"/>
            <a:ext cx="322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9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un paravent=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scre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1"/>
          <p:cNvSpPr/>
          <p:nvPr/>
        </p:nvSpPr>
        <p:spPr>
          <a:xfrm>
            <a:off x="914400" y="685800"/>
            <a:ext cx="8001000" cy="50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haché derrière un paravent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alibri"/>
              </a:rPr>
              <a:t>9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-dre-d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J’y suis resté pour voir ma femme-d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[C’est rare aussi quand on dit qu’on ai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ujourd’hui , aujourd’hui, femmedi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Dimanche, dimanche, dimanche, dimanche, dimanche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[Oh, oui, c’est vrai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’est rep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[Oh, je croyait que c’était un disque usé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2"/>
          <p:cNvSpPr/>
          <p:nvPr/>
        </p:nvSpPr>
        <p:spPr>
          <a:xfrm>
            <a:off x="927360" y="5943600"/>
            <a:ext cx="322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9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un paravent=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scre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1"/>
          <p:cNvSpPr/>
          <p:nvPr/>
        </p:nvSpPr>
        <p:spPr>
          <a:xfrm>
            <a:off x="914400" y="733320"/>
            <a:ext cx="8915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rop tard, je compris un l’infide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un-d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1"/>
          <p:cNvSpPr/>
          <p:nvPr/>
        </p:nvSpPr>
        <p:spPr>
          <a:xfrm>
            <a:off x="914400" y="733320"/>
            <a:ext cx="8915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rop tard, je compris un l’infide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un-di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[c’est pas très bien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1"/>
          <p:cNvSpPr/>
          <p:nvPr/>
        </p:nvSpPr>
        <p:spPr>
          <a:xfrm>
            <a:off x="914400" y="685800"/>
            <a:ext cx="80773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’est sur un trottoir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un beau lun - d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Que je l’ai recontré  à Clamard - d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on regard est beau comme la mer- cred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2"/>
          <p:cNvSpPr/>
          <p:nvPr/>
        </p:nvSpPr>
        <p:spPr>
          <a:xfrm>
            <a:off x="929160" y="5943600"/>
            <a:ext cx="332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 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un trottoi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= a sidewal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"/>
          <p:cNvSpPr/>
          <p:nvPr/>
        </p:nvSpPr>
        <p:spPr>
          <a:xfrm>
            <a:off x="914400" y="733320"/>
            <a:ext cx="89154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rop tard, je compris un l’infide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un-di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[c’est pas trop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 je lui ai dit “j’en ai marre</a:t>
            </a:r>
            <a:r>
              <a:rPr b="0" lang="en-US" sz="4400" spc="-1" strike="noStrike" baseline="30000">
                <a:solidFill>
                  <a:srgbClr val="000000"/>
                </a:solidFill>
                <a:latin typeface="Calibri"/>
              </a:rPr>
              <a:t>11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-di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2"/>
          <p:cNvSpPr/>
          <p:nvPr/>
        </p:nvSpPr>
        <p:spPr>
          <a:xfrm>
            <a:off x="918720" y="5638680"/>
            <a:ext cx="384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1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J’en ai marre=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 don’t c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1"/>
          <p:cNvSpPr/>
          <p:nvPr/>
        </p:nvSpPr>
        <p:spPr>
          <a:xfrm>
            <a:off x="914400" y="733320"/>
            <a:ext cx="891540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rop tard, je compris un l’infide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un-di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[c’est pas trop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 je lui ai dit “j’en ai marre</a:t>
            </a:r>
            <a:r>
              <a:rPr b="0" lang="en-US" sz="4400" spc="-1" strike="noStrike" baseline="30000">
                <a:solidFill>
                  <a:srgbClr val="000000"/>
                </a:solidFill>
                <a:latin typeface="Calibri"/>
              </a:rPr>
              <a:t>11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-di”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[C’est la, Bravo!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2"/>
          <p:cNvSpPr/>
          <p:nvPr/>
        </p:nvSpPr>
        <p:spPr>
          <a:xfrm>
            <a:off x="918720" y="5638680"/>
            <a:ext cx="384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1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J’en ai marre=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 don’t c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1"/>
          <p:cNvSpPr/>
          <p:nvPr/>
        </p:nvSpPr>
        <p:spPr>
          <a:xfrm>
            <a:off x="914400" y="733320"/>
            <a:ext cx="8915400" cy="39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rop tard, je compris un l’infide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un-di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[c’est pas trop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 je lui ai dit “j’en ai marre</a:t>
            </a:r>
            <a:r>
              <a:rPr b="0" lang="en-US" sz="4400" spc="-1" strike="noStrike" baseline="30000">
                <a:solidFill>
                  <a:srgbClr val="000000"/>
                </a:solidFill>
                <a:latin typeface="Calibri"/>
              </a:rPr>
              <a:t>11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-di”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[C’est la, Bravo!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r j’étais devenu si maigre</a:t>
            </a:r>
            <a:r>
              <a:rPr b="0" lang="en-US" sz="4400" spc="-1" strike="noStrike" baseline="30000">
                <a:solidFill>
                  <a:srgbClr val="000000"/>
                </a:solidFill>
                <a:latin typeface="Calibri"/>
              </a:rPr>
              <a:t>12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-d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2"/>
          <p:cNvSpPr/>
          <p:nvPr/>
        </p:nvSpPr>
        <p:spPr>
          <a:xfrm>
            <a:off x="461520" y="5638680"/>
            <a:ext cx="4831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1 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J’en ai marre=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 don’t c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2 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maigre=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n, skin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1"/>
          <p:cNvSpPr/>
          <p:nvPr/>
        </p:nvSpPr>
        <p:spPr>
          <a:xfrm>
            <a:off x="914400" y="762120"/>
            <a:ext cx="937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On ne voyait plus mes yeux bleu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1"/>
          <p:cNvSpPr/>
          <p:nvPr/>
        </p:nvSpPr>
        <p:spPr>
          <a:xfrm>
            <a:off x="914400" y="762120"/>
            <a:ext cx="9372600" cy="31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On ne voyait plus mes yeux bleu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[Alors, …Ce sera pas, eh, j’aurais eu des yeux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ris, n’est-ce pas,ce sera en effet  les yeux gris, jeudi…c’est un peu, quoi, malheureusement,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j’ai des yeux bleus, qu’est-ce que je l’y fasse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en? Aller…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Box 2"/>
          <p:cNvSpPr/>
          <p:nvPr/>
        </p:nvSpPr>
        <p:spPr>
          <a:xfrm>
            <a:off x="964440" y="633240"/>
            <a:ext cx="7265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Je couche sur un édredon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alibri"/>
              </a:rPr>
              <a:t>12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-dre-d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3"/>
          <p:cNvSpPr/>
          <p:nvPr/>
        </p:nvSpPr>
        <p:spPr>
          <a:xfrm>
            <a:off x="919800" y="6014880"/>
            <a:ext cx="617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2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un édredon=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comforter, duvet, bedsp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Box 2"/>
          <p:cNvSpPr/>
          <p:nvPr/>
        </p:nvSpPr>
        <p:spPr>
          <a:xfrm>
            <a:off x="964440" y="633240"/>
            <a:ext cx="7265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Je couche sur un édredon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alibri"/>
              </a:rPr>
              <a:t>12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-dre-d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J’ai repris cinq kilogrammes-di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919800" y="6014880"/>
            <a:ext cx="617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2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un édredon=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comforter, duvet, bedsp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Box 2"/>
          <p:cNvSpPr/>
          <p:nvPr/>
        </p:nvSpPr>
        <p:spPr>
          <a:xfrm>
            <a:off x="964440" y="633240"/>
            <a:ext cx="72658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Je couche sur un édredon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alibri"/>
              </a:rPr>
              <a:t>12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-dre-d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J’ai repris cinq kilogrammes-di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[Cela n’est rien à fair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je suis fatigué certaineme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eureusement, que demain c’est:]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3"/>
          <p:cNvSpPr/>
          <p:nvPr/>
        </p:nvSpPr>
        <p:spPr>
          <a:xfrm>
            <a:off x="919800" y="6014880"/>
            <a:ext cx="617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2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un édredon=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comforter, duvet, bedsp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Box 2"/>
          <p:cNvSpPr/>
          <p:nvPr/>
        </p:nvSpPr>
        <p:spPr>
          <a:xfrm>
            <a:off x="964440" y="633240"/>
            <a:ext cx="726588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Je couche sur un édredon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alibri"/>
              </a:rPr>
              <a:t>12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-dre-d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J’ai repris cinq kilogrammes-di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[Cela n’est rien à fair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je suis fatigué certaineme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eureusement, que demain c’est:]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Dimanche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3"/>
          <p:cNvSpPr/>
          <p:nvPr/>
        </p:nvSpPr>
        <p:spPr>
          <a:xfrm>
            <a:off x="919800" y="6014880"/>
            <a:ext cx="617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2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un édredon=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comforter, duvet, bedsp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Box 2"/>
          <p:cNvSpPr/>
          <p:nvPr/>
        </p:nvSpPr>
        <p:spPr>
          <a:xfrm>
            <a:off x="964440" y="633240"/>
            <a:ext cx="726588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Je couche sur un édredon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alibri"/>
              </a:rPr>
              <a:t>12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-dre-d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J’ai repris cinq kilogrammes-di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[Cela n’est rien à fair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je suis fatigué certaineme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eureusement, que demain c’est:]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Dimanche, dimanche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3"/>
          <p:cNvSpPr/>
          <p:nvPr/>
        </p:nvSpPr>
        <p:spPr>
          <a:xfrm>
            <a:off x="919800" y="6014880"/>
            <a:ext cx="617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2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un édredon=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comforter, duvet, bedsp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"/>
          <p:cNvSpPr/>
          <p:nvPr/>
        </p:nvSpPr>
        <p:spPr>
          <a:xfrm>
            <a:off x="914400" y="685800"/>
            <a:ext cx="80773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’est sur un trottoir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un beau lun - d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Que je l’ai recontré  à Clamard - d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on regard est beau comme la mer- cred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arce que  vous avez des beaux yeux, di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2"/>
          <p:cNvSpPr/>
          <p:nvPr/>
        </p:nvSpPr>
        <p:spPr>
          <a:xfrm>
            <a:off x="929160" y="5943600"/>
            <a:ext cx="332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 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un trottoi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= a sidewal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Box 2"/>
          <p:cNvSpPr/>
          <p:nvPr/>
        </p:nvSpPr>
        <p:spPr>
          <a:xfrm>
            <a:off x="964440" y="633240"/>
            <a:ext cx="726588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Je couche sur un édredon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alibri"/>
              </a:rPr>
              <a:t>12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-dre-d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J’ai repris cinq kilogrammes-di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[Cela n’est rien à fair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je suis fatigué certaineme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eureusement, que demain c’est:]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Dimanche, dimanche, dimanche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3"/>
          <p:cNvSpPr/>
          <p:nvPr/>
        </p:nvSpPr>
        <p:spPr>
          <a:xfrm>
            <a:off x="919800" y="6014880"/>
            <a:ext cx="617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2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un édredon=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comforter, duvet, bedsp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Box 2"/>
          <p:cNvSpPr/>
          <p:nvPr/>
        </p:nvSpPr>
        <p:spPr>
          <a:xfrm>
            <a:off x="964440" y="633240"/>
            <a:ext cx="726588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Je couche sur un édredon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alibri"/>
              </a:rPr>
              <a:t>12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-dre-d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J’ai repris cinq kilogrammes-di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[Cela n’est rien à fair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je suis fatigué certaineme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eureusement, que demain c’est:]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Dimanche, dimanche, dimanche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3"/>
          <p:cNvSpPr/>
          <p:nvPr/>
        </p:nvSpPr>
        <p:spPr>
          <a:xfrm>
            <a:off x="919800" y="6014880"/>
            <a:ext cx="617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2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un édredon=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comforter, duvet, bedsp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Box 2"/>
          <p:cNvSpPr/>
          <p:nvPr/>
        </p:nvSpPr>
        <p:spPr>
          <a:xfrm>
            <a:off x="964440" y="633240"/>
            <a:ext cx="7265880" cy="39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Je couche sur un édredon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alibri"/>
              </a:rPr>
              <a:t>12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-dre-d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J’ai repris cinq kilogrammes-di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[Cela n’est rien à fair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je suis fatigué certaineme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eureusement, que demain c’est:]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Dimanche, dimanche, dimanche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’est rep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3"/>
          <p:cNvSpPr/>
          <p:nvPr/>
        </p:nvSpPr>
        <p:spPr>
          <a:xfrm>
            <a:off x="919800" y="6014880"/>
            <a:ext cx="617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2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un édredon=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comforter, duvet, bedsp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"/>
          <p:cNvSpPr/>
          <p:nvPr/>
        </p:nvSpPr>
        <p:spPr>
          <a:xfrm>
            <a:off x="914400" y="6858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Je les ai eu a la salle de vente,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alibri"/>
              </a:rPr>
              <a:t>2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dre-d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2"/>
          <p:cNvSpPr/>
          <p:nvPr/>
        </p:nvSpPr>
        <p:spPr>
          <a:xfrm>
            <a:off x="961560" y="6014880"/>
            <a:ext cx="496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la salle de vente=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auction roo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1"/>
          <p:cNvSpPr/>
          <p:nvPr/>
        </p:nvSpPr>
        <p:spPr>
          <a:xfrm>
            <a:off x="914400" y="68580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Je les ai eu a la salle de vente,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dre-d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is ca me fait rien pourvu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qu’on s’aime, d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2"/>
          <p:cNvSpPr/>
          <p:nvPr/>
        </p:nvSpPr>
        <p:spPr>
          <a:xfrm>
            <a:off x="961560" y="6014880"/>
            <a:ext cx="496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la salle de vente=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auction roo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1"/>
          <p:cNvSpPr/>
          <p:nvPr/>
        </p:nvSpPr>
        <p:spPr>
          <a:xfrm>
            <a:off x="914400" y="685800"/>
            <a:ext cx="9144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Je les ai eu a la salle de vente,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alibri"/>
              </a:rPr>
              <a:t>2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dre-d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is ca me fait rien pourvu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qu’on s’aime, d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Dimanche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2"/>
          <p:cNvSpPr/>
          <p:nvPr/>
        </p:nvSpPr>
        <p:spPr>
          <a:xfrm>
            <a:off x="961560" y="6014880"/>
            <a:ext cx="496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la salle de vente=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auction roo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1"/>
          <p:cNvSpPr/>
          <p:nvPr/>
        </p:nvSpPr>
        <p:spPr>
          <a:xfrm>
            <a:off x="914400" y="685800"/>
            <a:ext cx="9144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Je les ai eu a la salle de vente,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alibri"/>
              </a:rPr>
              <a:t>2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dre-d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is ca me fait rien pourvu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qu’on s’aime, d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Dimanche, dimanche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2"/>
          <p:cNvSpPr/>
          <p:nvPr/>
        </p:nvSpPr>
        <p:spPr>
          <a:xfrm>
            <a:off x="961560" y="6014880"/>
            <a:ext cx="496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la salle de vente=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auction roo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1T12:06:48Z</dcterms:created>
  <dc:creator>Angie</dc:creator>
  <dc:description/>
  <dc:language>en-US</dc:language>
  <cp:lastModifiedBy>Angie</cp:lastModifiedBy>
  <dcterms:modified xsi:type="dcterms:W3CDTF">2011-11-15T00:05:32Z</dcterms:modified>
  <cp:revision>9</cp:revision>
  <dc:subject/>
  <dc:title>Dimanche</dc:title>
</cp:coreProperties>
</file>